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34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348-45BC-4D16-BB98-776E1BB7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A09-6EB6-4A90-B3D7-AD0057B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B62-7468-4C60-9217-3D7068F8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026-B955-419E-9AB7-73A5744C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0B8-4B7E-4FD4-B58F-2A7C3CC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94B-1A11-481C-8910-0D9BE399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9F3-8B74-4014-91FF-3471945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030-C6D3-4F6A-BD77-409D67A0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B77-5BC3-4C55-8BDE-304E989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C19-7ED3-4EE0-9133-D52BA19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16C-D44C-4572-A151-D0DA4C7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88E-3C56-4254-A701-589070A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724E-1D71-495B-AEA5-D8C1FF973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pt2164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447920" y="1986120"/>
            <a:ext cx="45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 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 Ming Me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y’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41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41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42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42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42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43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43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43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43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44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44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44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45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45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45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45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46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46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46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47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4"/>
          <p:cNvSpPr/>
          <p:nvPr/>
        </p:nvSpPr>
        <p:spPr>
          <a:xfrm>
            <a:off x="533520" y="6858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sk and answer. Turn to page 23 and talk with your part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到课本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结组练习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7" descr="lian1"/>
          <p:cNvPicPr/>
          <p:nvPr/>
        </p:nvPicPr>
        <p:blipFill>
          <a:blip r:embed="rId1"/>
          <a:stretch/>
        </p:blipFill>
        <p:spPr>
          <a:xfrm>
            <a:off x="2362320" y="2743200"/>
            <a:ext cx="6348240" cy="2894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5" descr="1819267_135748034_1"/>
          <p:cNvPicPr/>
          <p:nvPr/>
        </p:nvPicPr>
        <p:blipFill>
          <a:blip r:embed="rId2"/>
          <a:stretch/>
        </p:blipFill>
        <p:spPr>
          <a:xfrm>
            <a:off x="152280" y="3505320"/>
            <a:ext cx="24973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481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482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486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489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492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495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498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501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504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507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510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513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516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518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521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524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527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530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533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536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Text Box 64"/>
          <p:cNvSpPr/>
          <p:nvPr/>
        </p:nvSpPr>
        <p:spPr>
          <a:xfrm>
            <a:off x="1066680" y="1168560"/>
            <a:ext cx="6629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 Ming is _____ friend. He is from_____. He is in _____ now. He has_____ classes in his school. He likes Chinese, art and ___. He meets some new _____ in Jenny’s _____. They are very friendly. Li Ming feels hap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7"/>
          <p:cNvSpPr/>
          <p:nvPr/>
        </p:nvSpPr>
        <p:spPr>
          <a:xfrm>
            <a:off x="3048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2"/>
          <p:cNvSpPr/>
          <p:nvPr/>
        </p:nvSpPr>
        <p:spPr>
          <a:xfrm>
            <a:off x="1143000" y="3886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3"/>
          <p:cNvSpPr/>
          <p:nvPr/>
        </p:nvSpPr>
        <p:spPr>
          <a:xfrm>
            <a:off x="4800600" y="1752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4"/>
          <p:cNvSpPr/>
          <p:nvPr/>
        </p:nvSpPr>
        <p:spPr>
          <a:xfrm>
            <a:off x="586728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5"/>
          <p:cNvSpPr/>
          <p:nvPr/>
        </p:nvSpPr>
        <p:spPr>
          <a:xfrm>
            <a:off x="4267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6"/>
          <p:cNvSpPr/>
          <p:nvPr/>
        </p:nvSpPr>
        <p:spPr>
          <a:xfrm>
            <a:off x="259092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7"/>
          <p:cNvSpPr/>
          <p:nvPr/>
        </p:nvSpPr>
        <p:spPr>
          <a:xfrm>
            <a:off x="312408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enny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8"/>
          <p:cNvSpPr/>
          <p:nvPr/>
        </p:nvSpPr>
        <p:spPr>
          <a:xfrm>
            <a:off x="205740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82"/>
          <p:cNvGrpSpPr/>
          <p:nvPr/>
        </p:nvGrpSpPr>
        <p:grpSpPr>
          <a:xfrm>
            <a:off x="1523880" y="5257800"/>
            <a:ext cx="5715000" cy="1447560"/>
            <a:chOff x="1523880" y="5257800"/>
            <a:chExt cx="5715000" cy="1447560"/>
          </a:xfrm>
        </p:grpSpPr>
        <p:sp>
          <p:nvSpPr>
            <p:cNvPr id="548" name="Text Box 65"/>
            <p:cNvSpPr/>
            <p:nvPr/>
          </p:nvSpPr>
          <p:spPr>
            <a:xfrm>
              <a:off x="1981080" y="617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Jenny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66"/>
            <p:cNvSpPr/>
            <p:nvPr/>
          </p:nvSpPr>
          <p:spPr>
            <a:xfrm>
              <a:off x="5943600" y="5867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h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8"/>
            <p:cNvSpPr/>
            <p:nvPr/>
          </p:nvSpPr>
          <p:spPr>
            <a:xfrm>
              <a:off x="3733920" y="6172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69"/>
            <p:cNvSpPr/>
            <p:nvPr/>
          </p:nvSpPr>
          <p:spPr>
            <a:xfrm>
              <a:off x="4800600" y="5867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70"/>
            <p:cNvSpPr/>
            <p:nvPr/>
          </p:nvSpPr>
          <p:spPr>
            <a:xfrm>
              <a:off x="5181480" y="6172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ri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71"/>
            <p:cNvSpPr/>
            <p:nvPr/>
          </p:nvSpPr>
          <p:spPr>
            <a:xfrm>
              <a:off x="1676520" y="5715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0"/>
            <p:cNvSpPr/>
            <p:nvPr/>
          </p:nvSpPr>
          <p:spPr>
            <a:xfrm>
              <a:off x="1523880" y="5257800"/>
              <a:ext cx="5715000" cy="1447560"/>
            </a:xfrm>
            <a:prstGeom prst="rect">
              <a:avLst/>
            </a:prstGeom>
            <a:noFill/>
            <a:ln cap="rnd" w="63360">
              <a:solidFill>
                <a:srgbClr val="3399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1"/>
            <p:cNvSpPr/>
            <p:nvPr/>
          </p:nvSpPr>
          <p:spPr>
            <a:xfrm>
              <a:off x="3276720" y="53337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d L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tangle 83"/>
          <p:cNvSpPr/>
          <p:nvPr/>
        </p:nvSpPr>
        <p:spPr>
          <a:xfrm>
            <a:off x="533520" y="776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. Read and fill in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84" descr="liming"/>
          <p:cNvPicPr/>
          <p:nvPr/>
        </p:nvPicPr>
        <p:blipFill>
          <a:blip r:embed="rId1"/>
          <a:stretch/>
        </p:blipFill>
        <p:spPr>
          <a:xfrm rot="21427800">
            <a:off x="7769160" y="2819520"/>
            <a:ext cx="1374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562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563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567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570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573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576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579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582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585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588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591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594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6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597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599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602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605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608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611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614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617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5" descr="friends"/>
          <p:cNvPicPr/>
          <p:nvPr/>
        </p:nvPicPr>
        <p:blipFill>
          <a:blip r:embed="rId1"/>
          <a:stretch/>
        </p:blipFill>
        <p:spPr>
          <a:xfrm>
            <a:off x="2514600" y="220968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AutoShape 66"/>
          <p:cNvSpPr/>
          <p:nvPr/>
        </p:nvSpPr>
        <p:spPr>
          <a:xfrm>
            <a:off x="1600200" y="914400"/>
            <a:ext cx="5181480" cy="1042920"/>
          </a:xfrm>
          <a:custGeom>
            <a:avLst/>
            <a:gdLst>
              <a:gd name="textAreaLeft" fmla="*/ 67320 w 5181480"/>
              <a:gd name="textAreaRight" fmla="*/ 5114160 w 51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07284" h="21600">
                <a:moveTo>
                  <a:pt x="0" y="0"/>
                </a:moveTo>
                <a:lnTo>
                  <a:pt x="107284" y="0"/>
                </a:lnTo>
                <a:lnTo>
                  <a:pt x="107284" y="21600"/>
                </a:lnTo>
                <a:lnTo>
                  <a:pt x="0" y="21600"/>
                </a:lnTo>
                <a:close/>
              </a:path>
              <a:path fill="lightenLess" w="107284" h="21600">
                <a:moveTo>
                  <a:pt x="0" y="0"/>
                </a:moveTo>
                <a:lnTo>
                  <a:pt x="107284" y="0"/>
                </a:lnTo>
                <a:lnTo>
                  <a:pt x="105885" y="1400"/>
                </a:lnTo>
                <a:lnTo>
                  <a:pt x="1400" y="1400"/>
                </a:lnTo>
                <a:close/>
              </a:path>
              <a:path fill="darken" w="107284" h="21600">
                <a:moveTo>
                  <a:pt x="107284" y="0"/>
                </a:moveTo>
                <a:lnTo>
                  <a:pt x="107284" y="21600"/>
                </a:lnTo>
                <a:lnTo>
                  <a:pt x="105885" y="20200"/>
                </a:lnTo>
                <a:lnTo>
                  <a:pt x="105885" y="1400"/>
                </a:lnTo>
                <a:close/>
              </a:path>
              <a:path fill="darkenLess" w="107284" h="21600">
                <a:moveTo>
                  <a:pt x="10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885" y="20200"/>
                </a:lnTo>
                <a:close/>
              </a:path>
              <a:path fill="lighten" w="10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Good 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62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62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63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63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63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64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64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64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64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65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65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65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66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66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66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66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67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67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67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68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6"/>
          <p:cNvSpPr/>
          <p:nvPr/>
        </p:nvSpPr>
        <p:spPr>
          <a:xfrm>
            <a:off x="609480" y="7142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lways go to school together on each school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67" descr="f zuoche"/>
          <p:cNvPicPr/>
          <p:nvPr/>
        </p:nvPicPr>
        <p:blipFill>
          <a:blip r:embed="rId1"/>
          <a:stretch/>
        </p:blipFill>
        <p:spPr>
          <a:xfrm>
            <a:off x="1676520" y="1905120"/>
            <a:ext cx="5892840" cy="40129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9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7" name="轻音乐 - 春野.mp3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80"/>
                            </p:stCondLst>
                            <p:childTnLst>
                              <p:par>
                                <p:cTn id="1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81"/>
                            </p:stCondLst>
                            <p:childTnLst>
                              <p:par>
                                <p:cTn id="1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71" dur="1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692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693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697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700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703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706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709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712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715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718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721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724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727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729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732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735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738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741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744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747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64" descr="f kanshu"/>
          <p:cNvPicPr/>
          <p:nvPr/>
        </p:nvPicPr>
        <p:blipFill>
          <a:blip r:embed="rId1"/>
          <a:stretch/>
        </p:blipFill>
        <p:spPr>
          <a:xfrm>
            <a:off x="2590920" y="190512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65"/>
          <p:cNvSpPr/>
          <p:nvPr/>
        </p:nvSpPr>
        <p:spPr>
          <a:xfrm>
            <a:off x="838080" y="51588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I am reading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He is reading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6"/>
          <p:cNvSpPr/>
          <p:nvPr/>
        </p:nvSpPr>
        <p:spPr>
          <a:xfrm>
            <a:off x="2288880" y="5607000"/>
            <a:ext cx="50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re reading together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757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758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762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765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768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771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774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777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780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783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786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789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792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794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797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800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803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806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809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812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4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4" descr="f wan"/>
          <p:cNvPicPr/>
          <p:nvPr/>
        </p:nvPicPr>
        <p:blipFill>
          <a:blip r:embed="rId1"/>
          <a:stretch/>
        </p:blipFill>
        <p:spPr>
          <a:xfrm>
            <a:off x="1828800" y="2057400"/>
            <a:ext cx="5105520" cy="342576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65"/>
          <p:cNvSpPr/>
          <p:nvPr/>
        </p:nvSpPr>
        <p:spPr>
          <a:xfrm>
            <a:off x="1752480" y="7621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lways play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821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822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826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829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832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835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838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841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844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847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850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853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856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858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861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864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867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870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873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876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8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64" descr="f dasao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3886200"/>
          </a:xfrm>
          <a:prstGeom prst="rect">
            <a:avLst/>
          </a:prstGeom>
          <a:ln w="0">
            <a:noFill/>
          </a:ln>
        </p:spPr>
      </p:pic>
      <p:sp>
        <p:nvSpPr>
          <p:cNvPr id="880" name="Text Box 65"/>
          <p:cNvSpPr/>
          <p:nvPr/>
        </p:nvSpPr>
        <p:spPr>
          <a:xfrm>
            <a:off x="457200" y="8064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Sometimes I help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6"/>
          <p:cNvSpPr/>
          <p:nvPr/>
        </p:nvSpPr>
        <p:spPr>
          <a:xfrm>
            <a:off x="1676520" y="1339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Sometimes he helps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7"/>
          <p:cNvSpPr/>
          <p:nvPr/>
        </p:nvSpPr>
        <p:spPr>
          <a:xfrm>
            <a:off x="1828800" y="5911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We always help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68" descr="f dasan"/>
          <p:cNvPicPr/>
          <p:nvPr/>
        </p:nvPicPr>
        <p:blipFill>
          <a:blip r:embed="rId2"/>
          <a:stretch/>
        </p:blipFill>
        <p:spPr>
          <a:xfrm>
            <a:off x="1752480" y="2057400"/>
            <a:ext cx="556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80"/>
                            </p:stCondLst>
                            <p:childTnLst>
                              <p:par>
                                <p:cTn id="21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888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889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893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896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899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902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905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908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911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914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917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920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2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923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925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928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931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934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937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940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943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5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5" descr="haopengyou"/>
          <p:cNvPicPr/>
          <p:nvPr/>
        </p:nvPicPr>
        <p:blipFill>
          <a:blip r:embed="rId1"/>
          <a:stretch/>
        </p:blipFill>
        <p:spPr>
          <a:xfrm>
            <a:off x="2286000" y="2057400"/>
            <a:ext cx="4648320" cy="380196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66"/>
          <p:cNvSpPr/>
          <p:nvPr/>
        </p:nvSpPr>
        <p:spPr>
          <a:xfrm>
            <a:off x="838080" y="83808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 </a:t>
            </a:r>
            <a:r>
              <a:rPr b="1" lang="en-US" sz="6000" spc="-1" strike="noStrike">
                <a:solidFill>
                  <a:srgbClr val="9900ff"/>
                </a:solidFill>
                <a:latin typeface="Times New Roman"/>
              </a:rPr>
              <a:t>are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go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od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f</a:t>
            </a:r>
            <a:r>
              <a:rPr b="1" lang="en-US" sz="6000" spc="-1" strike="noStrike">
                <a:solidFill>
                  <a:srgbClr val="00ccff"/>
                </a:solidFill>
                <a:latin typeface="Times New Roman"/>
              </a:rPr>
              <a:t>ri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en</a:t>
            </a: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5" descr="f wanshua"/>
          <p:cNvPicPr/>
          <p:nvPr/>
        </p:nvPicPr>
        <p:blipFill>
          <a:blip r:embed="rId1"/>
          <a:stretch/>
        </p:blipFill>
        <p:spPr>
          <a:xfrm>
            <a:off x="1905120" y="2743200"/>
            <a:ext cx="5257800" cy="322740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6"/>
          <p:cNvSpPr/>
          <p:nvPr/>
        </p:nvSpPr>
        <p:spPr>
          <a:xfrm>
            <a:off x="838080" y="5335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nd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cc66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 f</a:t>
            </a:r>
            <a:r>
              <a:rPr b="1" lang="en-US" sz="6000" spc="-1" strike="noStrike">
                <a:solidFill>
                  <a:srgbClr val="00ccff"/>
                </a:solidFill>
                <a:latin typeface="Times New Roman"/>
              </a:rPr>
              <a:t>ri</a:t>
            </a:r>
            <a:r>
              <a:rPr b="1" lang="en-US" sz="6000" spc="-1" strike="noStrike">
                <a:solidFill>
                  <a:srgbClr val="ff3399"/>
                </a:solidFill>
                <a:latin typeface="Times New Roman"/>
              </a:rPr>
              <a:t>en</a:t>
            </a: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d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d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be his/her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imes New Roman"/>
              </a:rPr>
              <a:t>fr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ie</a:t>
            </a:r>
            <a:r>
              <a:rPr b="1" lang="en-US" sz="6000" spc="-1" strike="noStrike">
                <a:solidFill>
                  <a:srgbClr val="0066cc"/>
                </a:solidFill>
                <a:latin typeface="Times New Roman"/>
              </a:rPr>
              <a:t>nd</a:t>
            </a:r>
            <a:r>
              <a:rPr b="1" lang="en-US" sz="60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67" descr=""/>
          <p:cNvPicPr/>
          <p:nvPr/>
        </p:nvPicPr>
        <p:blipFill>
          <a:blip r:embed="rId1"/>
          <a:stretch/>
        </p:blipFill>
        <p:spPr>
          <a:xfrm>
            <a:off x="190440" y="133200"/>
            <a:ext cx="8433000" cy="6343920"/>
          </a:xfrm>
          <a:prstGeom prst="rect">
            <a:avLst/>
          </a:prstGeom>
          <a:ln w="0">
            <a:noFill/>
          </a:ln>
        </p:spPr>
      </p:pic>
      <p:sp>
        <p:nvSpPr>
          <p:cNvPr id="951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955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956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960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963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966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969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972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975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978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981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984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987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990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992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995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998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1001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1004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1007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1010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6"/>
          <p:cNvSpPr/>
          <p:nvPr/>
        </p:nvSpPr>
        <p:spPr>
          <a:xfrm>
            <a:off x="1295280" y="914400"/>
            <a:ext cx="624852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Do you have a best friend? Who is he or she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Write about your best friend. Tell us about his/her age, height, hobbies, city,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Arial"/>
              </a:rPr>
              <a:t>写一篇短文，向大家介绍你最好的朋友，告诉我们他</a:t>
            </a: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zh-CN" sz="3500" spc="-1" strike="noStrike">
                <a:solidFill>
                  <a:srgbClr val="333399"/>
                </a:solidFill>
                <a:latin typeface="Arial"/>
              </a:rPr>
              <a:t>她的年龄、身高、爱好、所在城市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1752480" y="1981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inkle, twinkle, little sta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 wonder what you ar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 above the world so hig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ke a diamond in the sk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inkle, twinkle, little sta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 wonder what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winkle Twinkle Little Star.mp3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762120" y="5335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s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3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5335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My Fri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914400" y="1219320"/>
            <a:ext cx="41911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i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"/>
          <p:cNvSpPr/>
          <p:nvPr/>
        </p:nvSpPr>
        <p:spPr>
          <a:xfrm>
            <a:off x="533520" y="5486400"/>
            <a:ext cx="815328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"/>
          <p:cNvSpPr/>
          <p:nvPr/>
        </p:nvSpPr>
        <p:spPr>
          <a:xfrm>
            <a:off x="533520" y="6400800"/>
            <a:ext cx="815328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6"/>
          <p:cNvSpPr/>
          <p:nvPr/>
        </p:nvSpPr>
        <p:spPr>
          <a:xfrm>
            <a:off x="5562720" y="1295280"/>
            <a:ext cx="3047760" cy="228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8" descr="f12"/>
          <p:cNvPicPr/>
          <p:nvPr/>
        </p:nvPicPr>
        <p:blipFill>
          <a:blip r:embed="rId1"/>
          <a:stretch/>
        </p:blipFill>
        <p:spPr>
          <a:xfrm>
            <a:off x="5638680" y="1574640"/>
            <a:ext cx="2819520" cy="1903680"/>
          </a:xfrm>
          <a:prstGeom prst="rect">
            <a:avLst/>
          </a:prstGeom>
          <a:ln w="0">
            <a:noFill/>
          </a:ln>
        </p:spPr>
      </p:pic>
      <p:sp>
        <p:nvSpPr>
          <p:cNvPr id="1020" name="Line 9"/>
          <p:cNvSpPr/>
          <p:nvPr/>
        </p:nvSpPr>
        <p:spPr>
          <a:xfrm>
            <a:off x="533520" y="4521240"/>
            <a:ext cx="815328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feynman_副本2"/>
          <p:cNvPicPr/>
          <p:nvPr/>
        </p:nvPicPr>
        <p:blipFill>
          <a:blip r:embed="rId2"/>
          <a:stretch/>
        </p:blipFill>
        <p:spPr>
          <a:xfrm>
            <a:off x="7010280" y="3962520"/>
            <a:ext cx="185904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beier1_副本_副本"/>
          <p:cNvPicPr/>
          <p:nvPr/>
        </p:nvPicPr>
        <p:blipFill>
          <a:blip r:embed="rId3"/>
          <a:stretch/>
        </p:blipFill>
        <p:spPr>
          <a:xfrm>
            <a:off x="6961320" y="1371600"/>
            <a:ext cx="21826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gela_副本"/>
          <p:cNvPicPr/>
          <p:nvPr/>
        </p:nvPicPr>
        <p:blipFill>
          <a:blip r:embed="rId4"/>
          <a:stretch/>
        </p:blipFill>
        <p:spPr>
          <a:xfrm>
            <a:off x="304920" y="175248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/>
          <p:cNvSpPr/>
          <p:nvPr/>
        </p:nvSpPr>
        <p:spPr>
          <a:xfrm>
            <a:off x="609480" y="609480"/>
            <a:ext cx="2743200" cy="1067040"/>
          </a:xfrm>
          <a:prstGeom prst="wedgeEllipseCallout">
            <a:avLst>
              <a:gd name="adj1" fmla="val -27370"/>
              <a:gd name="adj2" fmla="val 84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Changs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5562720" y="228600"/>
            <a:ext cx="2590560" cy="1219320"/>
          </a:xfrm>
          <a:prstGeom prst="cloudCallout">
            <a:avLst>
              <a:gd name="adj1" fmla="val 60231"/>
              <a:gd name="adj2" fmla="val 76171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Shang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495680" y="4038480"/>
            <a:ext cx="2667240" cy="914400"/>
          </a:xfrm>
          <a:prstGeom prst="wedgeRoundRectCallout">
            <a:avLst>
              <a:gd name="adj1" fmla="val 45476"/>
              <a:gd name="adj2" fmla="val 82638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ng Ko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香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cindy_副本"/>
          <p:cNvPicPr/>
          <p:nvPr/>
        </p:nvPicPr>
        <p:blipFill>
          <a:blip r:embed="rId5"/>
          <a:stretch/>
        </p:blipFill>
        <p:spPr>
          <a:xfrm>
            <a:off x="380880" y="4038480"/>
            <a:ext cx="1905120" cy="18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天天_副本"/>
          <p:cNvPicPr/>
          <p:nvPr/>
        </p:nvPicPr>
        <p:blipFill>
          <a:blip r:embed="rId6"/>
          <a:stretch/>
        </p:blipFill>
        <p:spPr>
          <a:xfrm>
            <a:off x="3505320" y="304920"/>
            <a:ext cx="1792080" cy="19810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7"/>
          <p:cNvSpPr/>
          <p:nvPr/>
        </p:nvSpPr>
        <p:spPr>
          <a:xfrm>
            <a:off x="1905120" y="3276720"/>
            <a:ext cx="2438280" cy="1143000"/>
          </a:xfrm>
          <a:prstGeom prst="cloudCallout">
            <a:avLst>
              <a:gd name="adj1" fmla="val -44921"/>
              <a:gd name="adj2" fmla="val 70000"/>
            </a:avLst>
          </a:prstGeom>
          <a:solidFill>
            <a:srgbClr val="ddc1d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Fuzh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4648320" y="2133720"/>
            <a:ext cx="1904760" cy="914400"/>
          </a:xfrm>
          <a:prstGeom prst="wedgeRoundRectCallout">
            <a:avLst>
              <a:gd name="adj1" fmla="val -55250"/>
              <a:gd name="adj2" fmla="val -84550"/>
              <a:gd name="adj3" fmla="val 16667"/>
            </a:avLst>
          </a:prstGeom>
          <a:solidFill>
            <a:srgbClr val="6d6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am from Beij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eynman_副本2"/>
          <p:cNvPicPr/>
          <p:nvPr/>
        </p:nvPicPr>
        <p:blipFill>
          <a:blip r:embed="rId2"/>
          <a:stretch/>
        </p:blipFill>
        <p:spPr>
          <a:xfrm rot="905400">
            <a:off x="7162920" y="4266720"/>
            <a:ext cx="16300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eier1_副本_副本"/>
          <p:cNvPicPr/>
          <p:nvPr/>
        </p:nvPicPr>
        <p:blipFill>
          <a:blip r:embed="rId3"/>
          <a:stretch/>
        </p:blipFill>
        <p:spPr>
          <a:xfrm>
            <a:off x="6705720" y="533520"/>
            <a:ext cx="218268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angela_副本"/>
          <p:cNvPicPr/>
          <p:nvPr/>
        </p:nvPicPr>
        <p:blipFill>
          <a:blip r:embed="rId4"/>
          <a:stretch/>
        </p:blipFill>
        <p:spPr>
          <a:xfrm rot="21204000">
            <a:off x="439560" y="610920"/>
            <a:ext cx="1957680" cy="19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indy_副本"/>
          <p:cNvPicPr/>
          <p:nvPr/>
        </p:nvPicPr>
        <p:blipFill>
          <a:blip r:embed="rId5"/>
          <a:stretch/>
        </p:blipFill>
        <p:spPr>
          <a:xfrm rot="20985600">
            <a:off x="380880" y="4280040"/>
            <a:ext cx="1752840" cy="185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天天_副本"/>
          <p:cNvPicPr/>
          <p:nvPr/>
        </p:nvPicPr>
        <p:blipFill>
          <a:blip r:embed="rId6"/>
          <a:stretch/>
        </p:blipFill>
        <p:spPr>
          <a:xfrm>
            <a:off x="3505320" y="304920"/>
            <a:ext cx="1792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2666880" y="1828800"/>
            <a:ext cx="3733920" cy="1828800"/>
          </a:xfrm>
          <a:prstGeom prst="cloudCallout">
            <a:avLst>
              <a:gd name="adj1" fmla="val 23384"/>
              <a:gd name="adj2" fmla="val -3706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fr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600200" y="3429000"/>
            <a:ext cx="640080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Where are you fr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743200" y="4572000"/>
            <a:ext cx="396252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I am from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71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72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76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79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82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85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88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91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94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97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100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103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106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108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111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114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117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120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123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126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4" descr="7"/>
          <p:cNvPicPr/>
          <p:nvPr/>
        </p:nvPicPr>
        <p:blipFill>
          <a:blip r:embed="rId1"/>
          <a:stretch/>
        </p:blipFill>
        <p:spPr>
          <a:xfrm>
            <a:off x="3581280" y="2514600"/>
            <a:ext cx="5562720" cy="3468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5"/>
          <p:cNvSpPr/>
          <p:nvPr/>
        </p:nvSpPr>
        <p:spPr>
          <a:xfrm>
            <a:off x="30492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is Jenny’s teac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3808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r. Woo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Jenny’s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13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13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14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14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14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15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15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15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15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16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16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16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17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17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17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17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18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18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18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19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4" descr="8"/>
          <p:cNvPicPr/>
          <p:nvPr/>
        </p:nvPicPr>
        <p:blipFill>
          <a:blip r:embed="rId1"/>
          <a:stretch/>
        </p:blipFill>
        <p:spPr>
          <a:xfrm>
            <a:off x="152280" y="3200400"/>
            <a:ext cx="3810240" cy="2949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6"/>
          <p:cNvSpPr/>
          <p:nvPr/>
        </p:nvSpPr>
        <p:spPr>
          <a:xfrm>
            <a:off x="304920" y="730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o is K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3581280" y="2895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ere is Li Ming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838080" y="1492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m is Jenny’s fri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4114800" y="4038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Ming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1"/>
          <p:cNvSpPr/>
          <p:nvPr/>
        </p:nvSpPr>
        <p:spPr>
          <a:xfrm>
            <a:off x="457200" y="2666880"/>
            <a:ext cx="2666880" cy="685800"/>
          </a:xfrm>
          <a:prstGeom prst="wedgeRoundRectCallout">
            <a:avLst>
              <a:gd name="adj1" fmla="val 42379"/>
              <a:gd name="adj2" fmla="val 135416"/>
              <a:gd name="adj3" fmla="val 1666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m 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204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205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209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212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215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218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221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224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227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230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233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236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239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241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244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247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250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253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256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259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4" descr="Kim"/>
          <p:cNvPicPr/>
          <p:nvPr/>
        </p:nvPicPr>
        <p:blipFill>
          <a:blip r:embed="rId1"/>
          <a:stretch/>
        </p:blipFill>
        <p:spPr>
          <a:xfrm>
            <a:off x="380880" y="1523880"/>
            <a:ext cx="149868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5" descr="liming"/>
          <p:cNvPicPr/>
          <p:nvPr/>
        </p:nvPicPr>
        <p:blipFill>
          <a:blip r:embed="rId2"/>
          <a:stretch/>
        </p:blipFill>
        <p:spPr>
          <a:xfrm>
            <a:off x="6172200" y="3809880"/>
            <a:ext cx="1265400" cy="17528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6"/>
          <p:cNvSpPr/>
          <p:nvPr/>
        </p:nvSpPr>
        <p:spPr>
          <a:xfrm>
            <a:off x="533520" y="31240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How man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 does Li   Ming have each school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7"/>
          <p:cNvSpPr/>
          <p:nvPr/>
        </p:nvSpPr>
        <p:spPr>
          <a:xfrm>
            <a:off x="2743200" y="16002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has English, math, science, ar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0"/>
          <p:cNvSpPr/>
          <p:nvPr/>
        </p:nvSpPr>
        <p:spPr>
          <a:xfrm>
            <a:off x="228600" y="5619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hat subjects does Li Ming have in his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1"/>
          <p:cNvSpPr/>
          <p:nvPr/>
        </p:nvSpPr>
        <p:spPr>
          <a:xfrm>
            <a:off x="685800" y="44956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ve: thre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 in the morning and two in the afternoon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5">
            <a:hlinkClick r:id="" action="ppaction://hlinkshowjump?jump=nextslide"/>
          </p:cNvPr>
          <p:cNvSpPr/>
          <p:nvPr/>
        </p:nvSpPr>
        <p:spPr>
          <a:xfrm>
            <a:off x="7620120" y="54864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5836" y="10800"/>
                </a:moveTo>
                <a:lnTo>
                  <a:pt x="5330" y="17806"/>
                </a:lnTo>
                <a:lnTo>
                  <a:pt x="5330" y="3794"/>
                </a:lnTo>
                <a:close/>
              </a:path>
              <a:path fill="darken" w="24673" h="21600">
                <a:moveTo>
                  <a:pt x="17681" y="3794"/>
                </a:moveTo>
                <a:lnTo>
                  <a:pt x="17681" y="17806"/>
                </a:lnTo>
                <a:lnTo>
                  <a:pt x="19343" y="17806"/>
                </a:lnTo>
                <a:lnTo>
                  <a:pt x="193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273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274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278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281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284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287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290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293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296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299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302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305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308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310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313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316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319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322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325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328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4" descr="class"/>
          <p:cNvPicPr/>
          <p:nvPr/>
        </p:nvPicPr>
        <p:blipFill>
          <a:blip r:embed="rId1"/>
          <a:srcRect l="0" t="0" r="0" b="9573"/>
          <a:stretch/>
        </p:blipFill>
        <p:spPr>
          <a:xfrm>
            <a:off x="380880" y="762120"/>
            <a:ext cx="4724640" cy="27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5" descr="10"/>
          <p:cNvPicPr/>
          <p:nvPr/>
        </p:nvPicPr>
        <p:blipFill>
          <a:blip r:embed="rId2"/>
          <a:stretch/>
        </p:blipFill>
        <p:spPr>
          <a:xfrm>
            <a:off x="457200" y="411480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7" descr="9"/>
          <p:cNvPicPr/>
          <p:nvPr/>
        </p:nvPicPr>
        <p:blipFill>
          <a:blip r:embed="rId3"/>
          <a:stretch/>
        </p:blipFill>
        <p:spPr>
          <a:xfrm>
            <a:off x="6705720" y="8534520"/>
            <a:ext cx="990360" cy="866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8" descr="15"/>
          <p:cNvPicPr/>
          <p:nvPr/>
        </p:nvPicPr>
        <p:blipFill>
          <a:blip r:embed="rId4"/>
          <a:stretch/>
        </p:blipFill>
        <p:spPr>
          <a:xfrm>
            <a:off x="4876920" y="4876920"/>
            <a:ext cx="132228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9" descr="11"/>
          <p:cNvPicPr/>
          <p:nvPr/>
        </p:nvPicPr>
        <p:blipFill>
          <a:blip r:embed="rId5"/>
          <a:stretch/>
        </p:blipFill>
        <p:spPr>
          <a:xfrm>
            <a:off x="1219320" y="5105520"/>
            <a:ext cx="1314360" cy="1371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0" descr="12"/>
          <p:cNvPicPr/>
          <p:nvPr/>
        </p:nvPicPr>
        <p:blipFill>
          <a:blip r:embed="rId6"/>
          <a:stretch/>
        </p:blipFill>
        <p:spPr>
          <a:xfrm>
            <a:off x="2362320" y="380988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1" descr="13"/>
          <p:cNvPicPr/>
          <p:nvPr/>
        </p:nvPicPr>
        <p:blipFill>
          <a:blip r:embed="rId7"/>
          <a:stretch/>
        </p:blipFill>
        <p:spPr>
          <a:xfrm>
            <a:off x="2971800" y="52578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2" descr="14"/>
          <p:cNvPicPr/>
          <p:nvPr/>
        </p:nvPicPr>
        <p:blipFill>
          <a:blip r:embed="rId8"/>
          <a:stretch/>
        </p:blipFill>
        <p:spPr>
          <a:xfrm>
            <a:off x="4191120" y="3886200"/>
            <a:ext cx="1143000" cy="112716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73"/>
          <p:cNvSpPr/>
          <p:nvPr/>
        </p:nvSpPr>
        <p:spPr>
          <a:xfrm>
            <a:off x="5638680" y="3352680"/>
            <a:ext cx="3962520" cy="1828800"/>
          </a:xfrm>
          <a:prstGeom prst="cloudCallout">
            <a:avLst>
              <a:gd name="adj1" fmla="val -34296"/>
              <a:gd name="adj2" fmla="val 7847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all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4"/>
          <p:cNvSpPr/>
          <p:nvPr/>
        </p:nvSpPr>
        <p:spPr>
          <a:xfrm>
            <a:off x="5257800" y="304920"/>
            <a:ext cx="3124080" cy="1676160"/>
          </a:xfrm>
          <a:prstGeom prst="cloudCallout">
            <a:avLst>
              <a:gd name="adj1" fmla="val -53861"/>
              <a:gd name="adj2" fmla="val 7888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5">
            <a:hlinkClick r:id="" action="ppaction://hlinkshowjump?jump=previousslide"/>
          </p:cNvPr>
          <p:cNvSpPr/>
          <p:nvPr/>
        </p:nvSpPr>
        <p:spPr>
          <a:xfrm>
            <a:off x="7772400" y="57150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9"/>
          <p:cNvSpPr/>
          <p:nvPr/>
        </p:nvSpPr>
        <p:spPr>
          <a:xfrm>
            <a:off x="8610480" y="990720"/>
            <a:ext cx="533520" cy="2485800"/>
          </a:xfrm>
          <a:custGeom>
            <a:avLst/>
            <a:gdLst/>
            <a:ahLst/>
            <a:rect l="l" t="t" r="r" b="b"/>
            <a:pathLst>
              <a:path w="336" h="1566">
                <a:moveTo>
                  <a:pt x="325" y="0"/>
                </a:moveTo>
                <a:cubicBezTo>
                  <a:pt x="289" y="70"/>
                  <a:pt x="253" y="141"/>
                  <a:pt x="212" y="273"/>
                </a:cubicBezTo>
                <a:cubicBezTo>
                  <a:pt x="171" y="405"/>
                  <a:pt x="110" y="609"/>
                  <a:pt x="76" y="794"/>
                </a:cubicBezTo>
                <a:cubicBezTo>
                  <a:pt x="42" y="979"/>
                  <a:pt x="0" y="1259"/>
                  <a:pt x="7" y="1384"/>
                </a:cubicBezTo>
                <a:cubicBezTo>
                  <a:pt x="14" y="1509"/>
                  <a:pt x="76" y="1520"/>
                  <a:pt x="121" y="1543"/>
                </a:cubicBezTo>
                <a:cubicBezTo>
                  <a:pt x="166" y="1566"/>
                  <a:pt x="246" y="1554"/>
                  <a:pt x="280" y="1520"/>
                </a:cubicBezTo>
                <a:cubicBezTo>
                  <a:pt x="314" y="1486"/>
                  <a:pt x="336" y="1384"/>
                  <a:pt x="325" y="1339"/>
                </a:cubicBezTo>
                <a:cubicBezTo>
                  <a:pt x="314" y="1294"/>
                  <a:pt x="250" y="1256"/>
                  <a:pt x="212" y="1248"/>
                </a:cubicBezTo>
                <a:cubicBezTo>
                  <a:pt x="174" y="1240"/>
                  <a:pt x="121" y="1267"/>
                  <a:pt x="98" y="1293"/>
                </a:cubicBezTo>
                <a:cubicBezTo>
                  <a:pt x="75" y="1319"/>
                  <a:pt x="65" y="1373"/>
                  <a:pt x="76" y="1407"/>
                </a:cubicBezTo>
                <a:cubicBezTo>
                  <a:pt x="87" y="1441"/>
                  <a:pt x="140" y="1486"/>
                  <a:pt x="166" y="1497"/>
                </a:cubicBezTo>
                <a:cubicBezTo>
                  <a:pt x="192" y="1508"/>
                  <a:pt x="219" y="1490"/>
                  <a:pt x="234" y="1475"/>
                </a:cubicBezTo>
                <a:cubicBezTo>
                  <a:pt x="249" y="1460"/>
                  <a:pt x="257" y="1430"/>
                  <a:pt x="257" y="1407"/>
                </a:cubicBezTo>
                <a:cubicBezTo>
                  <a:pt x="257" y="1384"/>
                  <a:pt x="249" y="1350"/>
                  <a:pt x="234" y="1339"/>
                </a:cubicBezTo>
                <a:cubicBezTo>
                  <a:pt x="219" y="1328"/>
                  <a:pt x="181" y="1328"/>
                  <a:pt x="166" y="1339"/>
                </a:cubicBezTo>
                <a:cubicBezTo>
                  <a:pt x="151" y="1350"/>
                  <a:pt x="144" y="1400"/>
                  <a:pt x="144" y="140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9109080" y="0"/>
            <a:ext cx="438120" cy="2448000"/>
          </a:xfrm>
          <a:custGeom>
            <a:avLst/>
            <a:gdLst/>
            <a:ahLst/>
            <a:rect l="l" t="t" r="r" b="b"/>
            <a:pathLst>
              <a:path w="276" h="1316">
                <a:moveTo>
                  <a:pt x="94" y="0"/>
                </a:moveTo>
                <a:cubicBezTo>
                  <a:pt x="47" y="174"/>
                  <a:pt x="0" y="348"/>
                  <a:pt x="4" y="544"/>
                </a:cubicBezTo>
                <a:cubicBezTo>
                  <a:pt x="8" y="740"/>
                  <a:pt x="72" y="1050"/>
                  <a:pt x="117" y="1179"/>
                </a:cubicBezTo>
                <a:cubicBezTo>
                  <a:pt x="162" y="1308"/>
                  <a:pt x="246" y="1293"/>
                  <a:pt x="276" y="1316"/>
                </a:cubicBezTo>
              </a:path>
            </a:pathLst>
          </a:custGeom>
          <a:noFill/>
          <a:ln w="158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8001000" y="0"/>
            <a:ext cx="420840" cy="2016000"/>
          </a:xfrm>
          <a:custGeom>
            <a:avLst/>
            <a:gdLst/>
            <a:ahLst/>
            <a:rect l="l" t="t" r="r" b="b"/>
            <a:pathLst>
              <a:path w="514" h="2155">
                <a:moveTo>
                  <a:pt x="287" y="0"/>
                </a:moveTo>
                <a:cubicBezTo>
                  <a:pt x="325" y="26"/>
                  <a:pt x="363" y="53"/>
                  <a:pt x="401" y="159"/>
                </a:cubicBezTo>
                <a:cubicBezTo>
                  <a:pt x="439" y="265"/>
                  <a:pt x="514" y="359"/>
                  <a:pt x="514" y="635"/>
                </a:cubicBezTo>
                <a:cubicBezTo>
                  <a:pt x="514" y="911"/>
                  <a:pt x="458" y="1569"/>
                  <a:pt x="401" y="1815"/>
                </a:cubicBezTo>
                <a:cubicBezTo>
                  <a:pt x="344" y="2061"/>
                  <a:pt x="231" y="2065"/>
                  <a:pt x="174" y="2110"/>
                </a:cubicBezTo>
                <a:cubicBezTo>
                  <a:pt x="117" y="2155"/>
                  <a:pt x="87" y="2113"/>
                  <a:pt x="61" y="2087"/>
                </a:cubicBezTo>
                <a:cubicBezTo>
                  <a:pt x="35" y="2061"/>
                  <a:pt x="0" y="1985"/>
                  <a:pt x="15" y="1951"/>
                </a:cubicBezTo>
                <a:cubicBezTo>
                  <a:pt x="30" y="1917"/>
                  <a:pt x="113" y="1883"/>
                  <a:pt x="151" y="1883"/>
                </a:cubicBezTo>
                <a:cubicBezTo>
                  <a:pt x="189" y="1883"/>
                  <a:pt x="227" y="1925"/>
                  <a:pt x="242" y="1951"/>
                </a:cubicBezTo>
                <a:cubicBezTo>
                  <a:pt x="257" y="1977"/>
                  <a:pt x="257" y="2023"/>
                  <a:pt x="242" y="2042"/>
                </a:cubicBezTo>
                <a:cubicBezTo>
                  <a:pt x="227" y="2061"/>
                  <a:pt x="177" y="2072"/>
                  <a:pt x="151" y="2064"/>
                </a:cubicBezTo>
                <a:cubicBezTo>
                  <a:pt x="125" y="2056"/>
                  <a:pt x="87" y="2019"/>
                  <a:pt x="83" y="1996"/>
                </a:cubicBezTo>
                <a:cubicBezTo>
                  <a:pt x="79" y="1973"/>
                  <a:pt x="114" y="1939"/>
                  <a:pt x="129" y="1928"/>
                </a:cubicBezTo>
                <a:cubicBezTo>
                  <a:pt x="144" y="1917"/>
                  <a:pt x="163" y="1917"/>
                  <a:pt x="174" y="1928"/>
                </a:cubicBezTo>
                <a:cubicBezTo>
                  <a:pt x="185" y="1939"/>
                  <a:pt x="201" y="1981"/>
                  <a:pt x="197" y="1996"/>
                </a:cubicBezTo>
                <a:cubicBezTo>
                  <a:pt x="193" y="2011"/>
                  <a:pt x="162" y="2027"/>
                  <a:pt x="151" y="2019"/>
                </a:cubicBezTo>
              </a:path>
            </a:pathLst>
          </a:custGeom>
          <a:noFill/>
          <a:ln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2"/>
          <p:cNvGrpSpPr/>
          <p:nvPr/>
        </p:nvGrpSpPr>
        <p:grpSpPr>
          <a:xfrm>
            <a:off x="8344080" y="-43920"/>
            <a:ext cx="810360" cy="2742480"/>
            <a:chOff x="8344080" y="-43920"/>
            <a:chExt cx="810360" cy="2742480"/>
          </a:xfrm>
        </p:grpSpPr>
        <p:grpSp>
          <p:nvGrpSpPr>
            <p:cNvPr id="346" name="Group 13"/>
            <p:cNvGrpSpPr/>
            <p:nvPr/>
          </p:nvGrpSpPr>
          <p:grpSpPr>
            <a:xfrm>
              <a:off x="8383680" y="-43920"/>
              <a:ext cx="405000" cy="357120"/>
              <a:chOff x="8383680" y="-43920"/>
              <a:chExt cx="405000" cy="357120"/>
            </a:xfrm>
          </p:grpSpPr>
          <p:sp>
            <p:nvSpPr>
              <p:cNvPr id="347" name="Freeform 14"/>
              <p:cNvSpPr/>
              <p:nvPr/>
            </p:nvSpPr>
            <p:spPr>
              <a:xfrm rot="1368000">
                <a:off x="8452440" y="-5760"/>
                <a:ext cx="2534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5"/>
              <p:cNvSpPr/>
              <p:nvPr/>
            </p:nvSpPr>
            <p:spPr>
              <a:xfrm flipH="1" rot="5364600">
                <a:off x="8484840" y="-45360"/>
                <a:ext cx="201600" cy="402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85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AutoShape 16"/>
            <p:cNvSpPr/>
            <p:nvPr/>
          </p:nvSpPr>
          <p:spPr>
            <a:xfrm>
              <a:off x="8751960" y="0"/>
              <a:ext cx="34920" cy="241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7"/>
            <p:cNvGrpSpPr/>
            <p:nvPr/>
          </p:nvGrpSpPr>
          <p:grpSpPr>
            <a:xfrm>
              <a:off x="8662320" y="243360"/>
              <a:ext cx="455760" cy="328680"/>
              <a:chOff x="8662320" y="243360"/>
              <a:chExt cx="455760" cy="328680"/>
            </a:xfrm>
          </p:grpSpPr>
          <p:sp>
            <p:nvSpPr>
              <p:cNvPr id="351" name="Freeform 18"/>
              <p:cNvSpPr/>
              <p:nvPr/>
            </p:nvSpPr>
            <p:spPr>
              <a:xfrm rot="17679600">
                <a:off x="8806680" y="195120"/>
                <a:ext cx="16668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9"/>
              <p:cNvSpPr/>
              <p:nvPr/>
            </p:nvSpPr>
            <p:spPr>
              <a:xfrm flipH="1" rot="75600">
                <a:off x="8765280" y="277560"/>
                <a:ext cx="30528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20"/>
            <p:cNvGrpSpPr/>
            <p:nvPr/>
          </p:nvGrpSpPr>
          <p:grpSpPr>
            <a:xfrm>
              <a:off x="8462880" y="946080"/>
              <a:ext cx="385560" cy="257400"/>
              <a:chOff x="8462880" y="946080"/>
              <a:chExt cx="385560" cy="257400"/>
            </a:xfrm>
          </p:grpSpPr>
          <p:sp>
            <p:nvSpPr>
              <p:cNvPr id="354" name="Freeform 21"/>
              <p:cNvSpPr/>
              <p:nvPr/>
            </p:nvSpPr>
            <p:spPr>
              <a:xfrm rot="801000">
                <a:off x="8530560" y="969480"/>
                <a:ext cx="22968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flipH="1" rot="4797600">
                <a:off x="8579880" y="907920"/>
                <a:ext cx="150840" cy="3650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8344080" y="371880"/>
              <a:ext cx="444960" cy="366840"/>
              <a:chOff x="8344080" y="371880"/>
              <a:chExt cx="444960" cy="366840"/>
            </a:xfrm>
          </p:grpSpPr>
          <p:sp>
            <p:nvSpPr>
              <p:cNvPr id="357" name="Freeform 24"/>
              <p:cNvSpPr/>
              <p:nvPr/>
            </p:nvSpPr>
            <p:spPr>
              <a:xfrm rot="1368000">
                <a:off x="8418600" y="414720"/>
                <a:ext cx="278640" cy="280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flipH="1" rot="5364600">
                <a:off x="8465400" y="355680"/>
                <a:ext cx="201600" cy="442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6"/>
            <p:cNvGrpSpPr/>
            <p:nvPr/>
          </p:nvGrpSpPr>
          <p:grpSpPr>
            <a:xfrm>
              <a:off x="8698680" y="841320"/>
              <a:ext cx="455760" cy="329400"/>
              <a:chOff x="8698680" y="841320"/>
              <a:chExt cx="455760" cy="329400"/>
            </a:xfrm>
          </p:grpSpPr>
          <p:sp>
            <p:nvSpPr>
              <p:cNvPr id="360" name="Freeform 27"/>
              <p:cNvSpPr/>
              <p:nvPr/>
            </p:nvSpPr>
            <p:spPr>
              <a:xfrm rot="17679600">
                <a:off x="8842680" y="793440"/>
                <a:ext cx="167400" cy="4248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8"/>
              <p:cNvSpPr/>
              <p:nvPr/>
            </p:nvSpPr>
            <p:spPr>
              <a:xfrm flipH="1" rot="75600">
                <a:off x="8802360" y="874800"/>
                <a:ext cx="305280" cy="266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9"/>
            <p:cNvGrpSpPr/>
            <p:nvPr/>
          </p:nvGrpSpPr>
          <p:grpSpPr>
            <a:xfrm>
              <a:off x="8687520" y="1159920"/>
              <a:ext cx="322920" cy="270360"/>
              <a:chOff x="8687520" y="1159920"/>
              <a:chExt cx="322920" cy="270360"/>
            </a:xfrm>
          </p:grpSpPr>
          <p:sp>
            <p:nvSpPr>
              <p:cNvPr id="363" name="Freeform 30"/>
              <p:cNvSpPr/>
              <p:nvPr/>
            </p:nvSpPr>
            <p:spPr>
              <a:xfrm rot="17679600">
                <a:off x="8765280" y="1157040"/>
                <a:ext cx="166680" cy="278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1"/>
              <p:cNvSpPr/>
              <p:nvPr/>
            </p:nvSpPr>
            <p:spPr>
              <a:xfrm flipH="1" rot="75600">
                <a:off x="8768520" y="1161720"/>
                <a:ext cx="200160" cy="2646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2"/>
            <p:cNvGrpSpPr/>
            <p:nvPr/>
          </p:nvGrpSpPr>
          <p:grpSpPr>
            <a:xfrm>
              <a:off x="8685360" y="1778400"/>
              <a:ext cx="318600" cy="281880"/>
              <a:chOff x="8685360" y="1778400"/>
              <a:chExt cx="318600" cy="281880"/>
            </a:xfrm>
          </p:grpSpPr>
          <p:sp>
            <p:nvSpPr>
              <p:cNvPr id="366" name="Freeform 33"/>
              <p:cNvSpPr/>
              <p:nvPr/>
            </p:nvSpPr>
            <p:spPr>
              <a:xfrm rot="17293200">
                <a:off x="8760960" y="1783080"/>
                <a:ext cx="166680" cy="2804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4"/>
              <p:cNvSpPr/>
              <p:nvPr/>
            </p:nvSpPr>
            <p:spPr>
              <a:xfrm flipH="1" rot="21289800">
                <a:off x="8762760" y="1786680"/>
                <a:ext cx="201600" cy="264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8419320" y="1467000"/>
              <a:ext cx="384120" cy="257040"/>
              <a:chOff x="8419320" y="1467000"/>
              <a:chExt cx="384120" cy="257040"/>
            </a:xfrm>
          </p:grpSpPr>
          <p:sp>
            <p:nvSpPr>
              <p:cNvPr id="369" name="Freeform 36"/>
              <p:cNvSpPr/>
              <p:nvPr/>
            </p:nvSpPr>
            <p:spPr>
              <a:xfrm rot="801000">
                <a:off x="8487360" y="1490400"/>
                <a:ext cx="228600" cy="2098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7"/>
              <p:cNvSpPr/>
              <p:nvPr/>
            </p:nvSpPr>
            <p:spPr>
              <a:xfrm flipH="1" rot="4797600">
                <a:off x="8535240" y="1429200"/>
                <a:ext cx="15084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38"/>
            <p:cNvGrpSpPr/>
            <p:nvPr/>
          </p:nvGrpSpPr>
          <p:grpSpPr>
            <a:xfrm>
              <a:off x="8419320" y="2045880"/>
              <a:ext cx="384480" cy="258480"/>
              <a:chOff x="8419320" y="2045880"/>
              <a:chExt cx="384480" cy="258480"/>
            </a:xfrm>
          </p:grpSpPr>
          <p:sp>
            <p:nvSpPr>
              <p:cNvPr id="372" name="Freeform 39"/>
              <p:cNvSpPr/>
              <p:nvPr/>
            </p:nvSpPr>
            <p:spPr>
              <a:xfrm rot="801000">
                <a:off x="8487000" y="2069280"/>
                <a:ext cx="22860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0"/>
              <p:cNvSpPr/>
              <p:nvPr/>
            </p:nvSpPr>
            <p:spPr>
              <a:xfrm flipH="1" rot="4797600">
                <a:off x="8535240" y="2009160"/>
                <a:ext cx="151920" cy="3632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1"/>
            <p:cNvGrpSpPr/>
            <p:nvPr/>
          </p:nvGrpSpPr>
          <p:grpSpPr>
            <a:xfrm>
              <a:off x="8615160" y="2358000"/>
              <a:ext cx="262800" cy="340560"/>
              <a:chOff x="8615160" y="2358000"/>
              <a:chExt cx="262800" cy="340560"/>
            </a:xfrm>
          </p:grpSpPr>
          <p:sp>
            <p:nvSpPr>
              <p:cNvPr id="375" name="Freeform 42"/>
              <p:cNvSpPr/>
              <p:nvPr/>
            </p:nvSpPr>
            <p:spPr>
              <a:xfrm rot="19112400">
                <a:off x="8641440" y="2450880"/>
                <a:ext cx="203400" cy="1569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3"/>
              <p:cNvSpPr/>
              <p:nvPr/>
            </p:nvSpPr>
            <p:spPr>
              <a:xfrm flipH="1" rot="1509000">
                <a:off x="8701200" y="2366280"/>
                <a:ext cx="112680" cy="323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4"/>
            <p:cNvGrpSpPr/>
            <p:nvPr/>
          </p:nvGrpSpPr>
          <p:grpSpPr>
            <a:xfrm>
              <a:off x="8737920" y="2181600"/>
              <a:ext cx="292680" cy="284760"/>
              <a:chOff x="8737920" y="2181600"/>
              <a:chExt cx="292680" cy="284760"/>
            </a:xfrm>
          </p:grpSpPr>
          <p:sp>
            <p:nvSpPr>
              <p:cNvPr id="378" name="Freeform 45"/>
              <p:cNvSpPr/>
              <p:nvPr/>
            </p:nvSpPr>
            <p:spPr>
              <a:xfrm rot="16605000">
                <a:off x="8808480" y="2192760"/>
                <a:ext cx="149760" cy="27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46"/>
              <p:cNvSpPr/>
              <p:nvPr/>
            </p:nvSpPr>
            <p:spPr>
              <a:xfrm flipH="1" rot="20601600">
                <a:off x="8802000" y="2204640"/>
                <a:ext cx="198000" cy="238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89"/>
          <p:cNvGrpSpPr/>
          <p:nvPr/>
        </p:nvGrpSpPr>
        <p:grpSpPr>
          <a:xfrm>
            <a:off x="7836480" y="27000"/>
            <a:ext cx="472680" cy="1686960"/>
            <a:chOff x="7836480" y="27000"/>
            <a:chExt cx="472680" cy="1686960"/>
          </a:xfrm>
        </p:grpSpPr>
        <p:sp>
          <p:nvSpPr>
            <p:cNvPr id="381" name="AutoShape 90"/>
            <p:cNvSpPr/>
            <p:nvPr/>
          </p:nvSpPr>
          <p:spPr>
            <a:xfrm>
              <a:off x="8091720" y="27000"/>
              <a:ext cx="34920" cy="152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91"/>
            <p:cNvGrpSpPr/>
            <p:nvPr/>
          </p:nvGrpSpPr>
          <p:grpSpPr>
            <a:xfrm>
              <a:off x="7869600" y="190800"/>
              <a:ext cx="297000" cy="221040"/>
              <a:chOff x="7869600" y="190800"/>
              <a:chExt cx="297000" cy="221040"/>
            </a:xfrm>
          </p:grpSpPr>
          <p:sp>
            <p:nvSpPr>
              <p:cNvPr id="383" name="Freeform 92"/>
              <p:cNvSpPr/>
              <p:nvPr/>
            </p:nvSpPr>
            <p:spPr>
              <a:xfrm rot="801000">
                <a:off x="7923240" y="208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93"/>
              <p:cNvSpPr/>
              <p:nvPr/>
            </p:nvSpPr>
            <p:spPr>
              <a:xfrm flipH="1" rot="4797600">
                <a:off x="7950600" y="175320"/>
                <a:ext cx="133560" cy="2779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94"/>
            <p:cNvGrpSpPr/>
            <p:nvPr/>
          </p:nvGrpSpPr>
          <p:grpSpPr>
            <a:xfrm>
              <a:off x="8039880" y="376920"/>
              <a:ext cx="255960" cy="238320"/>
              <a:chOff x="8039880" y="376920"/>
              <a:chExt cx="255960" cy="238320"/>
            </a:xfrm>
          </p:grpSpPr>
          <p:sp>
            <p:nvSpPr>
              <p:cNvPr id="386" name="Freeform 95"/>
              <p:cNvSpPr/>
              <p:nvPr/>
            </p:nvSpPr>
            <p:spPr>
              <a:xfrm rot="17679600">
                <a:off x="8093880" y="390960"/>
                <a:ext cx="14796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96"/>
              <p:cNvSpPr/>
              <p:nvPr/>
            </p:nvSpPr>
            <p:spPr>
              <a:xfrm flipH="1" rot="75600">
                <a:off x="8105760" y="378360"/>
                <a:ext cx="153720" cy="2350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7"/>
            <p:cNvGrpSpPr/>
            <p:nvPr/>
          </p:nvGrpSpPr>
          <p:grpSpPr>
            <a:xfrm>
              <a:off x="8037720" y="921600"/>
              <a:ext cx="249120" cy="246240"/>
              <a:chOff x="8037720" y="921600"/>
              <a:chExt cx="249120" cy="246240"/>
            </a:xfrm>
          </p:grpSpPr>
          <p:sp>
            <p:nvSpPr>
              <p:cNvPr id="389" name="Freeform 98"/>
              <p:cNvSpPr/>
              <p:nvPr/>
            </p:nvSpPr>
            <p:spPr>
              <a:xfrm rot="17293200">
                <a:off x="8088480" y="941760"/>
                <a:ext cx="146880" cy="2138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9"/>
              <p:cNvSpPr/>
              <p:nvPr/>
            </p:nvSpPr>
            <p:spPr>
              <a:xfrm flipH="1" rot="21289800">
                <a:off x="8100000" y="927720"/>
                <a:ext cx="153720" cy="23364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0"/>
            <p:cNvGrpSpPr/>
            <p:nvPr/>
          </p:nvGrpSpPr>
          <p:grpSpPr>
            <a:xfrm>
              <a:off x="7836480" y="649800"/>
              <a:ext cx="297360" cy="221040"/>
              <a:chOff x="7836480" y="649800"/>
              <a:chExt cx="297360" cy="221040"/>
            </a:xfrm>
          </p:grpSpPr>
          <p:sp>
            <p:nvSpPr>
              <p:cNvPr id="392" name="Freeform 101"/>
              <p:cNvSpPr/>
              <p:nvPr/>
            </p:nvSpPr>
            <p:spPr>
              <a:xfrm rot="801000">
                <a:off x="7889760" y="6674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02"/>
              <p:cNvSpPr/>
              <p:nvPr/>
            </p:nvSpPr>
            <p:spPr>
              <a:xfrm flipH="1" rot="4797600">
                <a:off x="7918200" y="6343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03"/>
            <p:cNvGrpSpPr/>
            <p:nvPr/>
          </p:nvGrpSpPr>
          <p:grpSpPr>
            <a:xfrm>
              <a:off x="7836480" y="1161000"/>
              <a:ext cx="297360" cy="221040"/>
              <a:chOff x="7836480" y="1161000"/>
              <a:chExt cx="297360" cy="221040"/>
            </a:xfrm>
          </p:grpSpPr>
          <p:sp>
            <p:nvSpPr>
              <p:cNvPr id="395" name="Freeform 104"/>
              <p:cNvSpPr/>
              <p:nvPr/>
            </p:nvSpPr>
            <p:spPr>
              <a:xfrm rot="801000">
                <a:off x="7889760" y="1178640"/>
                <a:ext cx="174600" cy="18576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5"/>
              <p:cNvSpPr/>
              <p:nvPr/>
            </p:nvSpPr>
            <p:spPr>
              <a:xfrm flipH="1" rot="4797600">
                <a:off x="7918200" y="1145520"/>
                <a:ext cx="133560" cy="2782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06"/>
            <p:cNvGrpSpPr/>
            <p:nvPr/>
          </p:nvGrpSpPr>
          <p:grpSpPr>
            <a:xfrm>
              <a:off x="7983360" y="1452960"/>
              <a:ext cx="225720" cy="261000"/>
              <a:chOff x="7983360" y="1452960"/>
              <a:chExt cx="225720" cy="261000"/>
            </a:xfrm>
          </p:grpSpPr>
          <p:sp>
            <p:nvSpPr>
              <p:cNvPr id="398" name="Freeform 107"/>
              <p:cNvSpPr/>
              <p:nvPr/>
            </p:nvSpPr>
            <p:spPr>
              <a:xfrm rot="19658400">
                <a:off x="8008560" y="151128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8"/>
              <p:cNvSpPr/>
              <p:nvPr/>
            </p:nvSpPr>
            <p:spPr>
              <a:xfrm flipH="1" rot="2055000">
                <a:off x="8047440" y="1459440"/>
                <a:ext cx="100440" cy="247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09"/>
            <p:cNvGrpSpPr/>
            <p:nvPr/>
          </p:nvGrpSpPr>
          <p:grpSpPr>
            <a:xfrm>
              <a:off x="8078760" y="1279440"/>
              <a:ext cx="230400" cy="245880"/>
              <a:chOff x="8078760" y="1279440"/>
              <a:chExt cx="230400" cy="245880"/>
            </a:xfrm>
          </p:grpSpPr>
          <p:sp>
            <p:nvSpPr>
              <p:cNvPr id="401" name="Freeform 110"/>
              <p:cNvSpPr/>
              <p:nvPr/>
            </p:nvSpPr>
            <p:spPr>
              <a:xfrm rot="16605000">
                <a:off x="8125560" y="1302120"/>
                <a:ext cx="132840" cy="21240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1"/>
              <p:cNvSpPr/>
              <p:nvPr/>
            </p:nvSpPr>
            <p:spPr>
              <a:xfrm flipH="1" rot="20601600">
                <a:off x="8129520" y="1296720"/>
                <a:ext cx="152640" cy="211320"/>
              </a:xfrm>
              <a:custGeom>
                <a:avLst/>
                <a:gdLst/>
                <a:ahLst/>
                <a:rect l="l" t="t" r="r" b="b"/>
                <a:pathLst>
                  <a:path w="213" h="343">
                    <a:moveTo>
                      <a:pt x="205" y="38"/>
                    </a:moveTo>
                    <a:cubicBezTo>
                      <a:pt x="213" y="0"/>
                      <a:pt x="99" y="57"/>
                      <a:pt x="69" y="106"/>
                    </a:cubicBezTo>
                    <a:cubicBezTo>
                      <a:pt x="39" y="155"/>
                      <a:pt x="0" y="343"/>
                      <a:pt x="23" y="332"/>
                    </a:cubicBezTo>
                    <a:cubicBezTo>
                      <a:pt x="46" y="321"/>
                      <a:pt x="197" y="76"/>
                      <a:pt x="205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336600"/>
                  </a:gs>
                </a:gsLst>
                <a:lin ang="39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Oval 4"/>
          <p:cNvSpPr/>
          <p:nvPr/>
        </p:nvSpPr>
        <p:spPr>
          <a:xfrm>
            <a:off x="-36360" y="6058080"/>
            <a:ext cx="9216720" cy="1331640"/>
          </a:xfrm>
          <a:prstGeom prst="ellipse">
            <a:avLst/>
          </a:prstGeom>
          <a:gradFill rotWithShape="0">
            <a:gsLst>
              <a:gs pos="0">
                <a:srgbClr val="005e5c">
                  <a:alpha val="60392"/>
                </a:srgbClr>
              </a:gs>
              <a:gs pos="100000">
                <a:srgbClr val="00363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4"/>
          <p:cNvSpPr/>
          <p:nvPr/>
        </p:nvSpPr>
        <p:spPr>
          <a:xfrm>
            <a:off x="1523880" y="2819520"/>
            <a:ext cx="65534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I: Listen and follow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5"/>
          <p:cNvSpPr/>
          <p:nvPr/>
        </p:nvSpPr>
        <p:spPr>
          <a:xfrm>
            <a:off x="1523880" y="3886200"/>
            <a:ext cx="68580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II: Read the text by your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6"/>
          <p:cNvSpPr/>
          <p:nvPr/>
        </p:nvSpPr>
        <p:spPr>
          <a:xfrm>
            <a:off x="1600200" y="5105520"/>
            <a:ext cx="65530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III: Imitate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7" descr="Mr"/>
          <p:cNvPicPr/>
          <p:nvPr/>
        </p:nvPicPr>
        <p:blipFill>
          <a:blip r:embed="rId1"/>
          <a:stretch/>
        </p:blipFill>
        <p:spPr>
          <a:xfrm rot="557400">
            <a:off x="1294920" y="1379160"/>
            <a:ext cx="962280" cy="1371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9" descr="Kim"/>
          <p:cNvPicPr/>
          <p:nvPr/>
        </p:nvPicPr>
        <p:blipFill>
          <a:blip r:embed="rId2"/>
          <a:stretch/>
        </p:blipFill>
        <p:spPr>
          <a:xfrm rot="209400">
            <a:off x="4419360" y="990720"/>
            <a:ext cx="1226880" cy="1371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0" descr="liming"/>
          <p:cNvPicPr/>
          <p:nvPr/>
        </p:nvPicPr>
        <p:blipFill>
          <a:blip r:embed="rId3"/>
          <a:stretch/>
        </p:blipFill>
        <p:spPr>
          <a:xfrm rot="21427800">
            <a:off x="6477120" y="1066320"/>
            <a:ext cx="934920" cy="1295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2" descr="J"/>
          <p:cNvPicPr/>
          <p:nvPr/>
        </p:nvPicPr>
        <p:blipFill>
          <a:blip r:embed="rId4"/>
          <a:stretch/>
        </p:blipFill>
        <p:spPr>
          <a:xfrm>
            <a:off x="2666880" y="1295280"/>
            <a:ext cx="1320840" cy="13716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73"/>
          <p:cNvSpPr/>
          <p:nvPr/>
        </p:nvSpPr>
        <p:spPr>
          <a:xfrm>
            <a:off x="609480" y="700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. Group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8:07:31Z</dcterms:created>
  <dc:creator/>
  <dc:description/>
  <dc:language>en-US</dc:language>
  <cp:lastModifiedBy>Administrator</cp:lastModifiedBy>
  <dcterms:modified xsi:type="dcterms:W3CDTF">2017-12-09T01:54:3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